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D3C-3597-453E-B1ED-A242B3F0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521-DE6D-4D18-B1E1-560E5D84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024-CDC9-4EF4-A847-9E688CB9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68D-D62F-4F02-B145-74511DC4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7A9-678C-4227-9EDB-54B13F9D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3C65-B679-4DA5-B54B-AED6E0C7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6900-2C3E-4FC9-A47B-5DDA33D7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00C-789F-40A8-955E-37736DCA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B3EB-AD76-467C-B03A-A885A2F0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3BBA-28CD-4721-BD42-4D816E97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C7AA-4CC4-46AF-83F8-1D39A8E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1E5-8765-4356-8F9B-EF146DB4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377F-7F34-4749-AAF5-53973E1C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6721-DDAB-4A5A-8DBC-BE24A020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16E0-43E0-48F1-8E5F-91BAEE05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D1C8-9886-46B0-B730-76072B8A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A50A-6FF9-4F3B-B7D7-B99251CB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ED4-396A-409A-8E3A-D112ED4F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98D-4BB7-469D-8612-72B7DE2B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5DC-9570-473C-B654-5B4BA599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D77-C656-4913-A2D8-41E1654D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EA7-AE69-4B59-B993-A3D281F9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F02-20E5-4827-BA9D-7D20680F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7CC-1E6E-4527-B88F-89ED01EE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045D-708D-4C79-97EA-15F8C78DB2E9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DCFD-3E1D-4C1C-A668-0821104BDAB4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Test PowerPoin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4419720"/>
            <a:ext cx="57913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Will it work?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hat will happen?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ho knows??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0:33:40Z</dcterms:created>
  <dc:creator>Bobbie Crockett</dc:creator>
  <dc:description/>
  <dc:language>en-US</dc:language>
  <cp:lastModifiedBy>Bobbie Crockett</cp:lastModifiedBy>
  <dcterms:modified xsi:type="dcterms:W3CDTF">2011-09-06T20:40:29Z</dcterms:modified>
  <cp:revision>2</cp:revision>
  <dc:subject/>
  <dc:title>Test PowerPoint</dc:title>
</cp:coreProperties>
</file>