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46A-A312-46AA-B4EE-46819902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6D7-024B-41E0-97DB-CD33B701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F0C-3B33-45F3-800F-9FECFD3B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0DC-E4D0-48BB-9E23-C066D129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A106-EE72-4333-B7E5-F445D8CD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5E50-75C6-4B21-A915-4ED014F1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F29B-449C-4C47-A9A8-E74A2862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AA99-84DB-42E8-9C65-B932A8FE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E5B8-7C27-4472-9093-7BE57265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561B-A5EE-46B2-BCE4-CDB5E028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AE2B-81F0-4843-8D04-961586D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AF9-FF58-412E-A3F2-1B46AF6A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D5BE-43E3-42F7-8F25-B759193C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6809-3444-4645-80F1-2FBA3B0E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26D5-CC0B-4791-8830-7D6A7467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6609-5ACF-402F-BD3E-E46093AE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D4F2-7231-4606-85EC-2655149C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330-D05C-4194-B7C3-82CA27E5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5A9-10C0-4403-9268-E9C038E9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9F6-A875-4176-A7D0-56B35038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4F4-628A-43AA-B69F-776D3478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E8A-5AC2-41FE-B882-BE3CBB6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FF8-5E35-48BD-B366-AEB22948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0DD-0210-407A-8798-CFC45C04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4B8B-3016-4A61-987A-F8C98A1DCA1E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4740-D3F0-44FB-B503-1F6D1FE05BAA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Test PowerPoin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520" y="4419720"/>
            <a:ext cx="57913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Will it work?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hat will happen?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ho knows??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0:33:40Z</dcterms:created>
  <dc:creator>Bobbie Crockett</dc:creator>
  <dc:description/>
  <dc:language>en-US</dc:language>
  <cp:lastModifiedBy>Bobbie Crockett</cp:lastModifiedBy>
  <dcterms:modified xsi:type="dcterms:W3CDTF">2011-09-06T20:40:29Z</dcterms:modified>
  <cp:revision>2</cp:revision>
  <dc:subject/>
  <dc:title>Test PowerPoint</dc:title>
</cp:coreProperties>
</file>